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4.wmf" ContentType="image/x-wmf"/>
  <Override PartName="/ppt/media/image52.png" ContentType="image/png"/>
  <Override PartName="/ppt/media/image50.png" ContentType="image/png"/>
  <Override PartName="/ppt/media/image46.png" ContentType="image/png"/>
  <Override PartName="/ppt/media/image45.wmf" ContentType="image/x-wmf"/>
  <Override PartName="/ppt/media/image36.png" ContentType="image/png"/>
  <Override PartName="/ppt/media/image33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16.png" ContentType="image/png"/>
  <Override PartName="/ppt/media/image55.wmf" ContentType="image/x-wmf"/>
  <Override PartName="/ppt/media/image3.png" ContentType="image/png"/>
  <Override PartName="/ppt/media/image15.png" ContentType="image/png"/>
  <Override PartName="/ppt/media/image18.wmf" ContentType="image/x-wmf"/>
  <Override PartName="/ppt/media/image57.png" ContentType="image/png"/>
  <Override PartName="/ppt/media/image20.wmf" ContentType="image/x-wmf"/>
  <Override PartName="/ppt/media/image63.png" ContentType="image/png"/>
  <Override PartName="/ppt/media/image4.wmf" ContentType="image/x-wmf"/>
  <Override PartName="/ppt/media/image59.png" ContentType="image/png"/>
  <Override PartName="/ppt/media/image62.wmf" ContentType="image/x-wmf"/>
  <Override PartName="/ppt/media/image22.png" ContentType="image/png"/>
  <Override PartName="/ppt/media/image24.jpeg" ContentType="image/jpeg"/>
  <Override PartName="/ppt/media/image61.png" ContentType="image/png"/>
  <Override PartName="/ppt/media/image25.wmf" ContentType="image/x-wmf"/>
  <Override PartName="/ppt/media/image64.png" ContentType="image/png"/>
  <Override PartName="/ppt/media/image27.png" ContentType="image/png"/>
  <Override PartName="/ppt/media/image30.wmf" ContentType="image/x-wmf"/>
  <Override PartName="/ppt/media/image26.wmf" ContentType="image/x-wmf"/>
  <Override PartName="/ppt/media/image28.wmf" ContentType="image/x-wmf"/>
  <Override PartName="/ppt/media/image23.wmf" ContentType="image/x-wmf"/>
  <Override PartName="/ppt/media/image51.jpeg" ContentType="image/jpeg"/>
  <Override PartName="/ppt/media/image58.png" ContentType="image/png"/>
  <Override PartName="/ppt/media/image60.png" ContentType="image/png"/>
  <Override PartName="/ppt/media/image2.png" ContentType="image/png"/>
  <Override PartName="/ppt/media/image56.jpeg" ContentType="image/jpeg"/>
  <Override PartName="/ppt/media/image10.wmf" ContentType="image/x-wmf"/>
  <Override PartName="/ppt/media/image29.wmf" ContentType="image/x-wmf"/>
  <Override PartName="/ppt/media/image11.png" ContentType="image/png"/>
  <Override PartName="/ppt/media/image4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37.png" ContentType="image/png"/>
  <Override PartName="/ppt/media/image6.png" ContentType="image/png"/>
  <Override PartName="/ppt/media/image40.wmf" ContentType="image/x-wmf"/>
  <Override PartName="/ppt/media/image12.png" ContentType="image/png"/>
  <Override PartName="/ppt/media/image49.png" ContentType="image/png"/>
  <Override PartName="/ppt/media/image14.jpeg" ContentType="image/jpeg"/>
  <Override PartName="/ppt/media/image8.png" ContentType="image/png"/>
  <Override PartName="/ppt/media/image38.png" ContentType="image/png"/>
  <Override PartName="/ppt/media/image19.png" ContentType="image/png"/>
  <Override PartName="/ppt/media/image7.png" ContentType="image/png"/>
  <Override PartName="/ppt/media/image41.wmf" ContentType="image/x-wmf"/>
  <Override PartName="/ppt/media/image13.png" ContentType="image/png"/>
  <Override PartName="/ppt/media/image53.wmf" ContentType="image/x-wmf"/>
  <Override PartName="/ppt/media/image9.wmf" ContentType="image/x-wmf"/>
  <Override PartName="/ppt/media/image39.wmf" ContentType="image/x-wmf"/>
  <Override PartName="/ppt/media/image31.wmf" ContentType="image/x-wmf"/>
  <Override PartName="/ppt/media/image32.wmf" ContentType="image/x-wmf"/>
  <Override PartName="/ppt/media/image34.png" ContentType="image/png"/>
  <Override PartName="/ppt/media/image42.png" ContentType="image/png"/>
  <Override PartName="/ppt/media/image43.wmf" ContentType="image/x-wmf"/>
  <Override PartName="/ppt/media/image44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B8E8-49A3-4ACC-82BA-87B8BC13B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4218F-4DDF-4BCD-B259-EBF213B55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954A-9FCD-47B6-B9FA-B0DD9F160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0BCA-F678-436D-BCAF-899D35D8B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B05D6-50BC-435A-8599-C37AA6E56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B79A-3C23-491A-A043-992C16217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4B996-59A7-43D3-9700-A5830DFD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619B-1617-45B9-B598-C4309F5A5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E4F0-C17E-4F12-B71D-81805D16A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AD94-867A-4900-ACF1-D38DCE537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D0468-E59A-4AD4-920D-06F84E660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C18CB-867E-46D8-95BE-9B880BEC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D1556-C4DA-47DB-948A-30100F0406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26.wmf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32.wmf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3.wmf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0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Layout" Target="../slideLayouts/slideLayout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wmf"/><Relationship Id="rId2" Type="http://schemas.openxmlformats.org/officeDocument/2006/relationships/image" Target="../media/image55.wmf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61.png"/><Relationship Id="rId2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62.wmf"/><Relationship Id="rId2" Type="http://schemas.openxmlformats.org/officeDocument/2006/relationships/slideLayout" Target="../slideLayouts/slideLayout5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685800"/>
            <a:ext cx="7924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3300"/>
                </a:solidFill>
                <a:latin typeface="Symbol"/>
                <a:ea typeface="Symbol"/>
              </a:rPr>
              <a:t></a:t>
            </a: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 </a:t>
            </a:r>
            <a:br>
              <a:rPr sz="3600"/>
            </a:b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nd the US Neutrino Programme</a:t>
            </a:r>
            <a:br>
              <a:rPr sz="36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46784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lie Camiller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ERN,  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DR Neutr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IPNO Orsay, 4 octobre 2006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45400" y="2362320"/>
            <a:ext cx="2298600" cy="396216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0" y="2286000"/>
            <a:ext cx="5867280" cy="365616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228600" y="609480"/>
            <a:ext cx="86868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ully active detector consisting of alternating planes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rizontal and vertical 15.7m long plastic PVC tubes fill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ith liquid scintillator (BC 517L):  Total mas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25kton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ach tube viewed by a 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loope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WLS fibre  both ends of whi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re read by a  single avalanche photodiode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P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228600" y="5105160"/>
            <a:ext cx="838080" cy="6094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30400" y="5486400"/>
            <a:ext cx="4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7440" y="914400"/>
            <a:ext cx="1012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60 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cel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238880" y="6172200"/>
            <a:ext cx="91440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153280" y="2590920"/>
            <a:ext cx="0" cy="358128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62720" y="3200400"/>
            <a:ext cx="12780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TiO</a:t>
            </a:r>
            <a:r>
              <a:rPr b="0" lang="en-US" sz="20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Co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PVC tub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6400800" y="2971440"/>
            <a:ext cx="762120" cy="76212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52280" y="5943600"/>
            <a:ext cx="678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ubes are wide enough (6 cm) to allow large bending radius and no damage to fibre </a:t>
            </a:r>
            <a:r>
              <a:rPr b="0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loop is a “perfect” mirr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5334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valanche Photodio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56720" y="1600200"/>
            <a:ext cx="3180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amamatsu 32 APD array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62120" y="4114800"/>
            <a:ext cx="3460680" cy="25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ixel size 1.8mm x 1.05mm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Fibre 0.8mm diamet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voltage 400 Vol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ain 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perating temperature: -15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reduces nois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858000" y="1143000"/>
            <a:ext cx="0" cy="533520"/>
          </a:xfrm>
          <a:prstGeom prst="line">
            <a:avLst/>
          </a:prstGeom>
          <a:ln w="38160">
            <a:solidFill>
              <a:srgbClr val="3333ff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400080" y="685800"/>
            <a:ext cx="904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hot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257800" y="5638680"/>
            <a:ext cx="349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sic for APD’s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5 pe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533520" y="2050920"/>
            <a:ext cx="4343400" cy="23655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 flipH="1">
            <a:off x="2361960" y="1981080"/>
            <a:ext cx="75960" cy="76212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flipH="1" flipV="1">
            <a:off x="2057040" y="3581280"/>
            <a:ext cx="228600" cy="914400"/>
          </a:xfrm>
          <a:prstGeom prst="line">
            <a:avLst/>
          </a:prstGeom>
          <a:ln w="3816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181480" y="1676520"/>
            <a:ext cx="3502080" cy="40561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 flipV="1">
            <a:off x="3886200" y="3733920"/>
            <a:ext cx="1828800" cy="18288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y APD’s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990720"/>
            <a:ext cx="82296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The quantum efficiency of APD’s is much higher than a pm’s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: </a:t>
            </a:r>
            <a:r>
              <a:rPr b="1" lang="en-US" sz="2000" spc="-1" strike="noStrike">
                <a:solidFill>
                  <a:srgbClr val="ff66ff"/>
                </a:solidFill>
                <a:latin typeface="Times New Roman"/>
              </a:rPr>
              <a:t>~80%</a:t>
            </a:r>
            <a:r>
              <a:rPr b="0" lang="en-US" sz="2000" spc="-1" strike="noStrike">
                <a:solidFill>
                  <a:srgbClr val="ff0066"/>
                </a:solidFill>
                <a:latin typeface="Times New Roman"/>
              </a:rPr>
              <a:t>  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Especially at the higher wave length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surviving after traversing the fib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752480" y="2743200"/>
            <a:ext cx="6172200" cy="346860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 flipH="1">
            <a:off x="4876560" y="1371600"/>
            <a:ext cx="1981080" cy="205740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ibre/Scintillator cosmic ray 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52280" y="2666880"/>
            <a:ext cx="4665960" cy="30448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5257800" y="1143000"/>
            <a:ext cx="3448080" cy="353844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50280" y="1386000"/>
            <a:ext cx="5010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erted looped 15.7m long fibre in 60 cm lo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VC tube filled with liquid scintill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osed to cosmic ray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638320" y="4952880"/>
            <a:ext cx="255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Measured 20 p.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for a mip signal 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the far e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400800" y="28195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400800" y="2209320"/>
            <a:ext cx="0" cy="20574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799080" y="6172200"/>
            <a:ext cx="444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sic for APD’s: 2.5 pe noise  </a:t>
            </a:r>
            <a:r>
              <a:rPr b="1" lang="en-US" sz="2000" spc="-1" strike="noStrike">
                <a:solidFill>
                  <a:srgbClr val="3333ff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/N ~ 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67920" y="4510080"/>
            <a:ext cx="266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0    20    40    60    80 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Half Block Prototype Being Built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t Argon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814400" y="1843200"/>
            <a:ext cx="551520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-190512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Locati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0" y="5168880"/>
            <a:ext cx="9144000" cy="13320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5105520" y="0"/>
            <a:ext cx="4267080" cy="405756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224640" y="1932120"/>
            <a:ext cx="3716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Surface detector with abou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3m overburde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to reduce the em componen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3333ff"/>
                </a:solidFill>
                <a:latin typeface="Times New Roman"/>
              </a:rPr>
              <a:t>of cosmic ray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 flipV="1">
            <a:off x="3429000" y="1523880"/>
            <a:ext cx="2133720" cy="990720"/>
          </a:xfrm>
          <a:prstGeom prst="line">
            <a:avLst/>
          </a:prstGeom>
          <a:ln w="38160">
            <a:solidFill>
              <a:srgbClr val="ff505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943240" y="533160"/>
            <a:ext cx="2895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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br>
              <a:rPr sz="3200"/>
            </a:b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discrimin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6025" t="9029" r="6837" b="3765"/>
          <a:stretch/>
        </p:blipFill>
        <p:spPr>
          <a:xfrm>
            <a:off x="0" y="463680"/>
            <a:ext cx="5486400" cy="3987720"/>
          </a:xfrm>
          <a:prstGeom prst="rect">
            <a:avLst/>
          </a:prstGeom>
          <a:ln w="0">
            <a:noFill/>
          </a:ln>
        </p:spPr>
      </p:pic>
      <p:pic>
        <p:nvPicPr>
          <p:cNvPr id="162" name="" descr=""/>
          <p:cNvPicPr/>
          <p:nvPr/>
        </p:nvPicPr>
        <p:blipFill>
          <a:blip r:embed="rId2"/>
          <a:srcRect l="9285" t="8333" r="15001" b="1191"/>
          <a:stretch/>
        </p:blipFill>
        <p:spPr>
          <a:xfrm>
            <a:off x="4114800" y="3166920"/>
            <a:ext cx="5029200" cy="36054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136520" y="949320"/>
            <a:ext cx="932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887360" y="3657600"/>
            <a:ext cx="956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1040" y="4572000"/>
            <a:ext cx="376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 shower: many hits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uons do not: just one hit/pla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 flipV="1">
            <a:off x="990720" y="4038120"/>
            <a:ext cx="609480" cy="83844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5486400"/>
            <a:ext cx="1295280" cy="457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5867280"/>
            <a:ext cx="33530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utral Current background: 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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1" lang="en-US" sz="3200" spc="-1" strike="noStrike" baseline="30000">
                <a:solidFill>
                  <a:srgbClr val="ff0000"/>
                </a:solidFill>
                <a:latin typeface="Times New Roman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rcRect l="6412" t="9029" r="6154" b="3765"/>
          <a:stretch/>
        </p:blipFill>
        <p:spPr>
          <a:xfrm>
            <a:off x="1219320" y="1066680"/>
            <a:ext cx="6476760" cy="469260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685800" y="5943600"/>
            <a:ext cx="7391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Look like electrons and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CC, if two photons are not recogniz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C background 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/NO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A Neutrino beam: NUM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380880" y="685800"/>
            <a:ext cx="8382240" cy="2287440"/>
          </a:xfrm>
          <a:prstGeom prst="rect">
            <a:avLst/>
          </a:prstGeom>
          <a:ln w="0">
            <a:noFill/>
          </a:ln>
        </p:spPr>
      </p:pic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685800" y="2514600"/>
            <a:ext cx="1406520" cy="269892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3"/>
          <a:stretch/>
        </p:blipFill>
        <p:spPr>
          <a:xfrm>
            <a:off x="2438280" y="2978280"/>
            <a:ext cx="6705720" cy="367812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147600" y="5410080"/>
            <a:ext cx="238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ve horn and targe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change energ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 flipV="1">
            <a:off x="2209680" y="4952880"/>
            <a:ext cx="533520" cy="53352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1523880" y="1905120"/>
            <a:ext cx="381240" cy="83808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3915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OFF-AXIS Techn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240" y="685440"/>
            <a:ext cx="89154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0" y="1828800"/>
            <a:ext cx="4495680" cy="2286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228600" y="4267080"/>
            <a:ext cx="4343400" cy="25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y Spectrum is narrow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know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wher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expect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ear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n choose the off-axis angle an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lect the mean energy of the bea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he oscillation probability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4648320" y="609480"/>
            <a:ext cx="4582440" cy="1245960"/>
            <a:chOff x="4648320" y="609480"/>
            <a:chExt cx="4582440" cy="1245960"/>
          </a:xfrm>
        </p:grpSpPr>
        <p:sp>
          <p:nvSpPr>
            <p:cNvPr id="184" name=""/>
            <p:cNvSpPr/>
            <p:nvPr/>
          </p:nvSpPr>
          <p:spPr>
            <a:xfrm>
              <a:off x="5555520" y="1632600"/>
              <a:ext cx="565920" cy="222840"/>
            </a:xfrm>
            <a:prstGeom prst="rect">
              <a:avLst/>
            </a:prstGeom>
            <a:gradFill rotWithShape="0">
              <a:gsLst>
                <a:gs pos="0">
                  <a:srgbClr val="b2b2b2"/>
                </a:gs>
                <a:gs pos="100000">
                  <a:srgbClr val="525252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4120" y="1688400"/>
              <a:ext cx="18828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328000" y="1688400"/>
              <a:ext cx="189000" cy="11124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3b3b3b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648320" y="1743840"/>
              <a:ext cx="419400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984560" y="1717200"/>
              <a:ext cx="75600" cy="55440"/>
            </a:xfrm>
            <a:prstGeom prst="rect">
              <a:avLst/>
            </a:prstGeom>
            <a:solidFill>
              <a:srgbClr val="a5002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8426520" y="968400"/>
              <a:ext cx="263880" cy="498960"/>
            </a:xfrm>
            <a:prstGeom prst="can">
              <a:avLst>
                <a:gd name="adj" fmla="val 25000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V="1">
              <a:off x="5819400" y="1244880"/>
              <a:ext cx="2720520" cy="443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950880" y="1499400"/>
              <a:ext cx="13680" cy="246240"/>
            </a:xfrm>
            <a:custGeom>
              <a:avLst/>
              <a:gdLst/>
              <a:ahLst/>
              <a:rect l="l" t="t" r="r" b="b"/>
              <a:pathLst>
                <a:path w="17" h="213">
                  <a:moveTo>
                    <a:pt x="0" y="0"/>
                  </a:moveTo>
                  <a:cubicBezTo>
                    <a:pt x="6" y="38"/>
                    <a:pt x="13" y="76"/>
                    <a:pt x="15" y="111"/>
                  </a:cubicBezTo>
                  <a:cubicBezTo>
                    <a:pt x="17" y="146"/>
                    <a:pt x="13" y="179"/>
                    <a:pt x="10" y="213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7421760" y="135792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760640" y="1440720"/>
              <a:ext cx="584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Targe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21000" y="1452600"/>
              <a:ext cx="55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Hor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557680" y="1361160"/>
              <a:ext cx="8773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MS PGothic"/>
                </a:rPr>
                <a:t>Decay Pip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3800" y="609480"/>
              <a:ext cx="1056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  <a:ea typeface="MS PGothic"/>
                </a:rPr>
                <a:t>Detec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664160" y="1743840"/>
              <a:ext cx="290520" cy="1800"/>
            </a:xfrm>
            <a:prstGeom prst="line">
              <a:avLst/>
            </a:prstGeom>
            <a:ln w="1908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4419720" y="1981080"/>
            <a:ext cx="4717800" cy="47246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52280" y="1066680"/>
            <a:ext cx="4343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ost decay pions give simila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energies at the detecto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19720" y="6324480"/>
            <a:ext cx="76176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1371600"/>
            <a:ext cx="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114800" y="4495680"/>
            <a:ext cx="1828800" cy="0"/>
          </a:xfrm>
          <a:prstGeom prst="line">
            <a:avLst/>
          </a:prstGeom>
          <a:ln w="3816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lan of Tal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144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here do we stand and what do we still need to measu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NUMI bea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present and future perform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ts current user: MINOS. Present and expected performanc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ensitiv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status and schedu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US programm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a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Neutrino Beam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104880" y="3657600"/>
            <a:ext cx="1789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g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00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= 0.0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473880" y="4800600"/>
            <a:ext cx="2257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eam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~ 0.5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ajor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5343480" cy="4883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 flipH="1">
            <a:off x="3124080" y="3962520"/>
            <a:ext cx="28195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4800240" y="4648320"/>
            <a:ext cx="1676520" cy="3808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71760" y="1981080"/>
            <a:ext cx="9900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</a:t>
            </a:r>
            <a:r>
              <a:rPr b="1" lang="en-US" sz="2000" spc="-1" strike="noStrike">
                <a:solidFill>
                  <a:srgbClr val="339933"/>
                </a:solidFill>
                <a:latin typeface="Wingdings"/>
                <a:ea typeface="Wingdings"/>
              </a:rPr>
              <a:t>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713560" y="5791320"/>
            <a:ext cx="31813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Will hav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NEAR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det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o measure this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spectru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MINOS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1828800" y="1522440"/>
            <a:ext cx="6524640" cy="45356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464400" y="6172200"/>
            <a:ext cx="80722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Study of atmospheric mass region  through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4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disappear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results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4640" y="5181480"/>
            <a:ext cx="253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Suppression of 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 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at 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010280" y="28954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5638680" cy="38638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 flipH="1" flipV="1">
            <a:off x="1294920" y="3657240"/>
            <a:ext cx="304920" cy="160020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911520" y="838080"/>
            <a:ext cx="2422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pected unoscilla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1447560" y="1219320"/>
            <a:ext cx="53316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3886200" y="5181480"/>
            <a:ext cx="4952880" cy="118764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3"/>
          <a:stretch/>
        </p:blipFill>
        <p:spPr>
          <a:xfrm>
            <a:off x="6400800" y="914400"/>
            <a:ext cx="2558880" cy="55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0" y="50292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457200" y="1143000"/>
            <a:ext cx="6781680" cy="475128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1575360" y="5881680"/>
            <a:ext cx="450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tible with and comparable to S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More precise than K2K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61600" y="3290760"/>
            <a:ext cx="677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K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286000"/>
            <a:ext cx="1143000" cy="762120"/>
          </a:xfrm>
          <a:prstGeom prst="line">
            <a:avLst/>
          </a:prstGeom>
          <a:ln w="2844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he MINOS fu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5720" y="1981080"/>
            <a:ext cx="7432560" cy="411480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5660640" y="4724280"/>
            <a:ext cx="3177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MINOS base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3.4 x 10</a:t>
            </a:r>
            <a:r>
              <a:rPr b="1" lang="en-US" sz="2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2800" spc="-1" strike="noStrike">
                <a:solidFill>
                  <a:srgbClr val="00cc00"/>
                </a:solidFill>
                <a:latin typeface="Times New Roman"/>
              </a:rPr>
              <a:t>pots /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871160" y="5851440"/>
            <a:ext cx="2945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Improvement by about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actor of 3 in 3 yea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H="1" flipV="1">
            <a:off x="4419360" y="3581280"/>
            <a:ext cx="609480" cy="236232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4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Proton Beam as of tod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1676520" y="838080"/>
            <a:ext cx="6629400" cy="400068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 flipH="1">
            <a:off x="6934320" y="3124080"/>
            <a:ext cx="914400" cy="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28600" y="19051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8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p’s per spill               (2.2 se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85800" y="2590920"/>
            <a:ext cx="1447920" cy="259056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80880" y="5029200"/>
            <a:ext cx="647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For a Fermilab year of   2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7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e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2.4 x 10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0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pots/yea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(Achieved 1.27 x10</a:t>
            </a:r>
            <a:r>
              <a:rPr b="1" lang="en-US" sz="1600" spc="-1" strike="noStrike" baseline="30000">
                <a:solidFill>
                  <a:srgbClr val="3333ff"/>
                </a:solidFill>
                <a:latin typeface="Times New Roman"/>
              </a:rPr>
              <a:t>20</a:t>
            </a:r>
            <a:r>
              <a:rPr b="0" lang="en-US" sz="1600" spc="-1" strike="noStrike" baseline="30000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3333ff"/>
                </a:solidFill>
                <a:latin typeface="Times New Roman"/>
              </a:rPr>
              <a:t>in first turn-on yea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 baseline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.4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/year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847640" y="2895480"/>
            <a:ext cx="1157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~280 k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43200" y="205740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52280" y="304560"/>
            <a:ext cx="8763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fter the collider shuts down (2009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3120" y="1233360"/>
            <a:ext cx="8438040" cy="1179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antiproton production batches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o downtime for preparing collider shot.  No time for antiproto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accumulator  to recycler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ransfer time of 12 booster batches to Main Injector (0.8 sec).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stead transfer them to recycler during Main Injector cycle, and then transfe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n one 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RF in main inje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Upgrade of NUMI targe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This should bring the Main Injector to a 1MW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                                                 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Cost: 30-50 M$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ff"/>
                </a:solidFill>
                <a:latin typeface="Times New Roman"/>
              </a:rPr>
              <a:t>PROTONS: 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6.5 x 10</a:t>
            </a:r>
            <a:r>
              <a:rPr b="1" lang="en-US" sz="28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 protons on target per ye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A gain of a factor of  &gt; </a:t>
            </a: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9933"/>
                </a:solidFill>
                <a:latin typeface="Times New Roman"/>
              </a:rPr>
              <a:t>in numbers of protons delivere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Beam assump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0: Full shutdown to convert MI to 1 MW machin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1: 44 weeks running at 400 to 700 kW (Partial (5kT)detector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2: 38 weeks running at 700kW to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013 and beyond: 44 weeks at 1 M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430360" y="2743200"/>
            <a:ext cx="37040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Degradation factors assumed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ccelerator uptime: 85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erage to peak intensity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uptime: 90%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85800" y="4632480"/>
            <a:ext cx="59436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unning tim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tart running as soon as 5kT install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2 years to build up to full detec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un for 6 years from end of construc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        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Total: 60.3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0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po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104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6% electron shower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3.5% muon energy resolu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ximum likelihood applied to events to separate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vents from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ckgroun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ields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3%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efficiency for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including fiducial inefficien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suppress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E-4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C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.3E-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Neutral 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ptimized Figure of Meri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#Signal / sqrt(#bkd) =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3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4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signal events for 60 x 10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ot f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 0.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19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ackground events. (12 intrinsic bea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7 neutral current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Signal and Background I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istical Power: why this is hard and we need prot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4594320" y="2338560"/>
            <a:ext cx="3951360" cy="249552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608040" y="2327400"/>
            <a:ext cx="3987720" cy="2517480"/>
          </a:xfrm>
          <a:prstGeom prst="rect">
            <a:avLst/>
          </a:prstGeom>
          <a:ln w="0">
            <a:noFill/>
          </a:ln>
        </p:spPr>
      </p:pic>
      <p:pic>
        <p:nvPicPr>
          <p:cNvPr id="254" name="" descr=""/>
          <p:cNvPicPr/>
          <p:nvPr/>
        </p:nvPicPr>
        <p:blipFill>
          <a:blip r:embed="rId3"/>
          <a:stretch/>
        </p:blipFill>
        <p:spPr>
          <a:xfrm>
            <a:off x="1836720" y="2825640"/>
            <a:ext cx="279360" cy="25416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4"/>
          <a:stretch/>
        </p:blipFill>
        <p:spPr>
          <a:xfrm>
            <a:off x="5460840" y="2730600"/>
            <a:ext cx="279720" cy="35568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1071720" y="5035680"/>
            <a:ext cx="373140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si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= 0.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142.1,  B=19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   S=  71.8,  B=12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7960" y="50515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054160" y="585000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739040" y="443880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24160" y="4430880"/>
            <a:ext cx="42210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.05              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3-family oscillation matr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915400" cy="12603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62160" y="1081080"/>
            <a:ext cx="21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 = sine  c = cos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040" y="3581280"/>
            <a:ext cx="8778960" cy="30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P violation phas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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SOLA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oscillations: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31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056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047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- 16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riv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TMOSPHERIC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scillations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44 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+0.18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-0.10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+44%   -22%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00cc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he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ISSING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link !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0.03</a:t>
            </a:r>
            <a:r>
              <a:rPr b="0" lang="en-US" sz="2800" spc="-1" strike="noStrike" baseline="30000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t by a reactor experiment: CHOOZ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3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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sensitivity to 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 = 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4038480" cy="3992400"/>
          </a:xfrm>
          <a:prstGeom prst="rect">
            <a:avLst/>
          </a:prstGeom>
          <a:ln w="0">
            <a:noFill/>
          </a:ln>
        </p:spPr>
      </p:pic>
      <p:pic>
        <p:nvPicPr>
          <p:cNvPr id="263" name="" descr=""/>
          <p:cNvPicPr/>
          <p:nvPr/>
        </p:nvPicPr>
        <p:blipFill>
          <a:blip r:embed="rId2"/>
          <a:stretch/>
        </p:blipFill>
        <p:spPr>
          <a:xfrm>
            <a:off x="4572000" y="1295280"/>
            <a:ext cx="3962520" cy="396252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 flipH="1">
            <a:off x="6095880" y="380880"/>
            <a:ext cx="152640" cy="30492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80880" y="5715000"/>
            <a:ext cx="8763120" cy="990720"/>
          </a:xfrm>
          <a:prstGeom prst="rect">
            <a:avLst/>
          </a:prstGeom>
          <a:noFill/>
          <a:ln w="936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correlations are much reduced by running BOTH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Discovery limit i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tter than 0.0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for ALL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’s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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and BOTH mass hierarchi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078560" y="3124080"/>
            <a:ext cx="15829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onl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60.3 x 10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7247880" y="2819520"/>
            <a:ext cx="166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30.2 x 10 </a:t>
            </a:r>
            <a:r>
              <a:rPr b="1" lang="en-US" sz="1800" spc="-1" strike="noStrike" baseline="30000">
                <a:solidFill>
                  <a:srgbClr val="00cc00"/>
                </a:solidFill>
                <a:latin typeface="Times New Roman"/>
              </a:rPr>
              <a:t>20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pot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  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eac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    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and</a:t>
            </a:r>
            <a:r>
              <a:rPr b="1" lang="en-US" sz="1800" spc="-1" strike="noStrike">
                <a:solidFill>
                  <a:srgbClr val="00cc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(removes so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00cc00"/>
                </a:solidFill>
                <a:latin typeface="Times New Roman"/>
              </a:rPr>
              <a:t>correla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8229600" y="3429000"/>
            <a:ext cx="152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629400" y="5867280"/>
            <a:ext cx="152280" cy="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parison to T2K and a Reactor Experi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304920" y="1371600"/>
            <a:ext cx="3838320" cy="3809880"/>
          </a:xfrm>
          <a:prstGeom prst="rect">
            <a:avLst/>
          </a:prstGeom>
          <a:ln w="0">
            <a:noFill/>
          </a:ln>
        </p:spPr>
      </p:pic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4648320" y="1371600"/>
            <a:ext cx="3825720" cy="380988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3277440" y="259092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T2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486400" y="2819520"/>
            <a:ext cx="104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00"/>
                </a:solidFill>
                <a:latin typeface="Times New Roman"/>
              </a:rPr>
              <a:t>Re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 flipV="1">
            <a:off x="7848720" y="1752120"/>
            <a:ext cx="0" cy="29718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5711040" y="5181480"/>
            <a:ext cx="324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idwood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1" lang="en-US" sz="2000" spc="-1" strike="noStrike">
                <a:solidFill>
                  <a:srgbClr val="ff9900"/>
                </a:solidFill>
                <a:latin typeface="Times New Roman"/>
              </a:rPr>
              <a:t>Double Choo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 flipV="1">
            <a:off x="6934320" y="4952520"/>
            <a:ext cx="0" cy="38124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flipV="1">
            <a:off x="7848720" y="4800600"/>
            <a:ext cx="0" cy="457200"/>
          </a:xfrm>
          <a:prstGeom prst="line">
            <a:avLst/>
          </a:prstGeom>
          <a:ln w="38160">
            <a:solidFill>
              <a:srgbClr val="ff9933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28120" y="4952880"/>
            <a:ext cx="25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T2K may not be late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H="1">
            <a:off x="3048120" y="2971800"/>
            <a:ext cx="304560" cy="3808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87120" y="5791320"/>
            <a:ext cx="213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Not very diffe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023440" y="5715000"/>
            <a:ext cx="385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    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Comparable to a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Very sensitive reactor experi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228600" y="151920"/>
            <a:ext cx="8610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mbigu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 rot="5400000">
            <a:off x="1939680" y="1869840"/>
            <a:ext cx="4425840" cy="449568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304920" y="914400"/>
            <a:ext cx="86104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ombining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accelerator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experiments (sensitive 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2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with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reactor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xperiments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(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ensitive to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sin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(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θ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))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95% CL Resolution of the Mass Orde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 rot="5400000">
            <a:off x="3665160" y="1744560"/>
            <a:ext cx="4937400" cy="495288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-10080" y="1752480"/>
            <a:ext cx="424656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Important to establish hierarch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Per 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If inverted next gener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ouble beta decay 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an determine if the neutrino is 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wn antipartic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339933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measure CP violati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ed to remove hierarchy uncertaint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because it contributes a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pparent CP viol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06360" y="5715000"/>
            <a:ext cx="333828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Will depend on value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!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Combining NOνA and T2K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 rot="5400000">
            <a:off x="2080800" y="1347480"/>
            <a:ext cx="4295880" cy="43434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705720" y="266688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Δ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= 0.0030 eV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039760" y="5799240"/>
            <a:ext cx="455004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improvement at high values of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δ vs. sin</a:t>
            </a:r>
            <a:r>
              <a:rPr b="1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(2θ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) Contours for Test points: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rmal  Mass ordering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2895480" y="1523880"/>
            <a:ext cx="3891240" cy="381024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152280" y="32004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ormal Mass Ordering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193200" y="5943600"/>
            <a:ext cx="344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Some limited sensitivity at 1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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st and schedul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2120" y="685440"/>
            <a:ext cx="807696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tal cost (Far and near detectors, building, admin etc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26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 M$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(including 57 M$ contingenc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tat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pproved by Fermilab Program Advisory Committee: Stage 1 Approval, (April 2005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ioritized by NuSAG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commended by P5 for construction start in Fiscal Year 2008 (October 2007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itical Decision Zero (CD0) granted. Mission need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btained CD1 approval:  Range of Schedules and cost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D2 next end 2006(?): Final cost, schedule and TD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ranted $10M in R&amp;D for generic oscillation experiment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ton Driver CD0 shelved at this stage. But R&amp;D can continue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lternative plans for Main Injector upgrade to 1 MW, maybe 1.2 MW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              </a:t>
            </a: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Sche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sumption:  Approval early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07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ing ready: June 2009. (Agreement with U. of Minnesota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ve kilotons: Early 2011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pletion: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</a:rPr>
              <a:t>2012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ff"/>
                </a:solidFill>
                <a:latin typeface="Times New Roman"/>
              </a:rPr>
              <a:t>     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The US programme: Accelerators 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04920" y="12193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iBooNE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arch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the Fermilab boost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sults on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LSND observation this y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igh energy data already presen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SciBooN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K2K SciBar detect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iniBooNE beam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 energy 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INERVA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ross sec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t low energy in the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ar hall of NUMI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ing through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1"/>
          <a:stretch/>
        </p:blipFill>
        <p:spPr>
          <a:xfrm>
            <a:off x="5105520" y="914400"/>
            <a:ext cx="3733560" cy="3032280"/>
          </a:xfrm>
          <a:prstGeom prst="rect">
            <a:avLst/>
          </a:prstGeom>
          <a:ln w="0">
            <a:noFill/>
          </a:ln>
        </p:spPr>
      </p:pic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4181400" y="5029200"/>
            <a:ext cx="4962600" cy="15638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 flipV="1">
            <a:off x="4038480" y="2057400"/>
            <a:ext cx="990720" cy="91440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352680" y="5486400"/>
            <a:ext cx="685800" cy="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Accelerators II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80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Participation in 280m near detector supporte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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tector inside the UA1/NOMAD magnet for the near detector          and work on be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T2K 2Km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icipation in Water Cerenkov, civil engineering and liquid argon (150 ton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nly at  later stage if poss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Liquid argon R&amp;D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to determine whether scalable to tens of kilot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Double –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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deca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9" name="" descr=""/>
          <p:cNvPicPr/>
          <p:nvPr/>
        </p:nvPicPr>
        <p:blipFill>
          <a:blip r:embed="rId1"/>
          <a:stretch/>
        </p:blipFill>
        <p:spPr>
          <a:xfrm rot="5400000">
            <a:off x="2813400" y="-908640"/>
            <a:ext cx="3364200" cy="8686800"/>
          </a:xfrm>
          <a:prstGeom prst="rect">
            <a:avLst/>
          </a:prstGeom>
          <a:ln w="0">
            <a:noFill/>
          </a:ln>
        </p:spPr>
      </p:pic>
      <p:sp>
        <p:nvSpPr>
          <p:cNvPr id="310" name=""/>
          <p:cNvSpPr/>
          <p:nvPr/>
        </p:nvSpPr>
        <p:spPr>
          <a:xfrm>
            <a:off x="4719960" y="5410080"/>
            <a:ext cx="334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NuSAG recommenda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commended the first th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23560" y="5181480"/>
            <a:ext cx="32742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XO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:Potential for reduc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backg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y extracting and identify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resulting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arium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at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s a second st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 flipV="1">
            <a:off x="533160" y="3048120"/>
            <a:ext cx="75960" cy="220968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3276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ass hierarchy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Sign of </a:t>
            </a:r>
            <a:r>
              <a:rPr b="0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0" lang="en-US" sz="32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32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735280" y="16765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973160" y="1676520"/>
            <a:ext cx="7621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820880" y="1676520"/>
            <a:ext cx="15228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0200" y="46483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83000" y="46483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820880" y="46483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0200" y="426708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590920" y="426708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820880" y="426708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316560" y="4648320"/>
            <a:ext cx="7621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54800" y="4648320"/>
            <a:ext cx="76176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02160" y="4648320"/>
            <a:ext cx="15264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621480" y="167652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64280" y="167652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402160" y="167652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621480" y="2057400"/>
            <a:ext cx="45720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164280" y="2057400"/>
            <a:ext cx="45720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402160" y="2057400"/>
            <a:ext cx="7621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287360" y="4114800"/>
            <a:ext cx="609840" cy="94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369080" y="1523880"/>
            <a:ext cx="466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078680" y="1523880"/>
            <a:ext cx="5335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155000" y="4495680"/>
            <a:ext cx="6858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1058760" y="2057040"/>
            <a:ext cx="0" cy="60948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>
            <a:off x="1058760" y="3581280"/>
            <a:ext cx="792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257600" y="297180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    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8221680" y="236196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12320" y="2666880"/>
            <a:ext cx="155520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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23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=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     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19320" y="464832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flipV="1">
            <a:off x="1219320" y="441936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7777800" y="129528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612200" y="198108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7612200" y="1828440"/>
            <a:ext cx="0" cy="2286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487760" y="1676520"/>
            <a:ext cx="7621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649680" y="1676520"/>
            <a:ext cx="838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65320" y="1766880"/>
            <a:ext cx="1273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&gt;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0.05 eV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25000" y="1066680"/>
            <a:ext cx="628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rmal  Hierarchy                               Inverted  Hierarch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09480" y="5302080"/>
            <a:ext cx="7772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scillations only tell us about </a:t>
            </a:r>
            <a:r>
              <a:rPr b="0" lang="en-US" sz="2000" spc="-1" strike="noStrike">
                <a:solidFill>
                  <a:srgbClr val="3333cc"/>
                </a:solidFill>
                <a:latin typeface="Times New Roman"/>
              </a:rPr>
              <a:t> DIFFERENCES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 mas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t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BSOLU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mass scale: Direct measurements or Double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dec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per limit: Tritium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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cay: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mass (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) &l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2 eV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7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3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8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&gt;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00" y="4191120"/>
            <a:ext cx="1200240" cy="105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12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=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7.9 x 10 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-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229600" y="3962520"/>
            <a:ext cx="0" cy="685800"/>
          </a:xfrm>
          <a:prstGeom prst="line">
            <a:avLst/>
          </a:prstGeom>
          <a:ln w="381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114800" y="380880"/>
            <a:ext cx="304920" cy="2286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486400" y="380880"/>
            <a:ext cx="304920" cy="228600"/>
          </a:xfrm>
          <a:prstGeom prst="rect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858000" y="380880"/>
            <a:ext cx="304920" cy="228600"/>
          </a:xfrm>
          <a:prstGeom prst="rect">
            <a:avLst/>
          </a:prstGeom>
          <a:solidFill>
            <a:srgbClr val="33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495680" y="304920"/>
            <a:ext cx="4572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43600" y="304920"/>
            <a:ext cx="5335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320240" y="304920"/>
            <a:ext cx="3787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76212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US programme: Reacto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recommended a US experiment to get down to a sensitivity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f ~0.01.  Both Daya Bay and Braidwood had this potent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has stopp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Braidwoo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encouraged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aya Bay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uSAG encouraged participation in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Double Chooz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ut with lower scientific priority because of its lower reach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DOE does not go along with this but possibly the NSF wi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Very Long baseline: New NuSAG charg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15328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ssume a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M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ccelerato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cuss baselines: Compare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(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)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o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1300-2800km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selines: Fermilab or Brookhaven to new  Underground site at Henderson or Homestak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ypes of detectors: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Liquid Argon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Water Cerenkov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Broa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: covering several oscillation maxima at once or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narrow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ba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nsitivity and physics program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Joint BNL/FNAL study currently being carried out on these iss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port: Oct. 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0" lang="en-US" sz="4000" spc="-1" strike="noStrike">
                <a:solidFill>
                  <a:srgbClr val="339933"/>
                </a:solidFill>
                <a:latin typeface="Times New Roman"/>
              </a:rPr>
              <a:t>Extra Sli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Cost breakdow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9" name=""/>
          <p:cNvGraphicFramePr/>
          <p:nvPr/>
        </p:nvGraphicFramePr>
        <p:xfrm>
          <a:off x="685800" y="1981080"/>
          <a:ext cx="7772400" cy="4348440"/>
        </p:xfrm>
        <a:graphic>
          <a:graphicData uri="http://schemas.openxmlformats.org/drawingml/2006/table">
            <a:tbl>
              <a:tblPr/>
              <a:tblGrid>
                <a:gridCol w="4078440"/>
                <a:gridCol w="1769760"/>
                <a:gridCol w="19242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otal Cost M$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F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ctive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9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 and DAQ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hipp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stallatio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3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3.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ear Detec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4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uilding and outfitti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8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9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roject manag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5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Additional contingenc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</a:t>
                      </a:r>
                      <a:r>
                        <a:rPr b="1" lang="en-US" sz="2000" spc="-1" strike="noStrike">
                          <a:solidFill>
                            <a:srgbClr val="00cc99"/>
                          </a:solidFill>
                          <a:latin typeface="Times New Roman"/>
                        </a:rPr>
                        <a:t>14.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50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164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Far detec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1" name=""/>
          <p:cNvGraphicFramePr/>
          <p:nvPr/>
        </p:nvGraphicFramePr>
        <p:xfrm>
          <a:off x="685800" y="1981080"/>
          <a:ext cx="8229240" cy="4572000"/>
        </p:xfrm>
        <a:graphic>
          <a:graphicData uri="http://schemas.openxmlformats.org/drawingml/2006/table">
            <a:tbl>
              <a:tblPr/>
              <a:tblGrid>
                <a:gridCol w="4114440"/>
                <a:gridCol w="4114800"/>
              </a:tblGrid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VC modules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assembl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8.78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quid Scintillat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+handling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30.309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Wave-length shifting fibr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7.430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lectronics, Trigger,DAQ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3.412M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in MINOS Surface Buil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2557080" y="5562720"/>
            <a:ext cx="2366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45,000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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485400" y="5562720"/>
            <a:ext cx="21862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2,200 </a:t>
            </a:r>
            <a:r>
              <a:rPr b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CC ev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832120" y="1600200"/>
            <a:ext cx="431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6.5 x 10</a:t>
            </a:r>
            <a:r>
              <a:rPr b="1" lang="en-US" sz="1800" spc="-1" strike="noStrike" baseline="30000">
                <a:solidFill>
                  <a:srgbClr val="000000"/>
                </a:solidFill>
                <a:latin typeface="Arial"/>
              </a:rPr>
              <a:t>2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ot in 75 mrad off-axis bea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583080" y="2057400"/>
            <a:ext cx="133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Kaon pea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3809880" y="2514600"/>
            <a:ext cx="60984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8001000" cy="32400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 flipH="1">
            <a:off x="3352320" y="2438280"/>
            <a:ext cx="685800" cy="38124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Confirmed by KAMLAND: </a:t>
            </a:r>
            <a:br>
              <a:rPr sz="3200"/>
            </a:b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Reactor antineutrinos to detector at Kamiok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556272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1"/>
          <a:stretch/>
        </p:blipFill>
        <p:spPr>
          <a:xfrm>
            <a:off x="1600200" y="1295280"/>
            <a:ext cx="5589720" cy="421020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 flipV="1">
            <a:off x="1828800" y="4267080"/>
            <a:ext cx="1295280" cy="76320"/>
          </a:xfrm>
          <a:prstGeom prst="line">
            <a:avLst/>
          </a:prstGeom>
          <a:ln w="38160">
            <a:solidFill>
              <a:srgbClr val="00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87640" y="3824280"/>
            <a:ext cx="1468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Sol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Experi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743200"/>
            <a:ext cx="1523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KAML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H="1">
            <a:off x="5410080" y="3276720"/>
            <a:ext cx="1905120" cy="5331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663640" y="6040440"/>
            <a:ext cx="553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MS PGothic"/>
              </a:rPr>
              <a:t>KamLAND + Solar   Completely consist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New MINOS measure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1"/>
          <a:stretch/>
        </p:blipFill>
        <p:spPr>
          <a:xfrm>
            <a:off x="762120" y="1219320"/>
            <a:ext cx="7391160" cy="477036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12080" y="4815000"/>
            <a:ext cx="201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Experiment ende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152280" y="289548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Why are neutrino masses so low???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rcRect l="0" t="3178" r="0" b="0"/>
          <a:stretch/>
        </p:blipFill>
        <p:spPr>
          <a:xfrm>
            <a:off x="4267080" y="228600"/>
            <a:ext cx="4006800" cy="640080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3048120" y="3657600"/>
            <a:ext cx="1752480" cy="121932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4920" y="1371600"/>
            <a:ext cx="327636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Other partic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3352680" y="1676520"/>
            <a:ext cx="1447920" cy="0"/>
          </a:xfrm>
          <a:prstGeom prst="line">
            <a:avLst/>
          </a:prstGeom>
          <a:ln w="57240">
            <a:solidFill>
              <a:srgbClr val="33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59000" y="4572000"/>
            <a:ext cx="262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Times New Roman"/>
              </a:rPr>
              <a:t>Fascinating !!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0" y="5562720"/>
            <a:ext cx="4076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s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Lower limit: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(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.4 x 10-3)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1/2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&gt; 0.05 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APD respons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762120" y="16761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asured with light equivalent to </a:t>
            </a:r>
            <a:r>
              <a:rPr b="0" lang="en-US" sz="2800" spc="-1" strike="noStrike">
                <a:solidFill>
                  <a:srgbClr val="00cc00"/>
                </a:solidFill>
                <a:latin typeface="Times New Roman"/>
              </a:rPr>
              <a:t>on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two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mip’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905480" y="3429000"/>
            <a:ext cx="77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606600" y="4876920"/>
            <a:ext cx="242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Signal well separated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noi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191120" y="594360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4156560" y="5981760"/>
            <a:ext cx="449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3333ff"/>
                </a:solidFill>
                <a:latin typeface="Times New Roman"/>
              </a:rPr>
              <a:t>0           20          40          60         80      pe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3200400" y="2514600"/>
            <a:ext cx="5429160" cy="34290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2666880" y="3657600"/>
            <a:ext cx="144792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5562720" y="2133720"/>
            <a:ext cx="380880" cy="190476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>
            <a:off x="6781320" y="2209680"/>
            <a:ext cx="381240" cy="22860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What’s needed nex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Times New Roman"/>
              </a:rPr>
              <a:t>13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mass hierarch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y CP violation in the neutrino secto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5050"/>
                </a:solidFill>
                <a:latin typeface="Times New Roman"/>
              </a:rPr>
              <a:t>Summary of backgrou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0" name=""/>
          <p:cNvGraphicFramePr/>
          <p:nvPr/>
        </p:nvGraphicFramePr>
        <p:xfrm>
          <a:off x="685800" y="1143000"/>
          <a:ext cx="7772400" cy="4190760"/>
        </p:xfrm>
        <a:graphic>
          <a:graphicData uri="http://schemas.openxmlformats.org/drawingml/2006/table">
            <a:tbl>
              <a:tblPr/>
              <a:tblGrid>
                <a:gridCol w="1943280"/>
                <a:gridCol w="1942920"/>
                <a:gridCol w="1943280"/>
                <a:gridCol w="1942920"/>
              </a:tblGrid>
              <a:tr h="898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ackgroun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v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% 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rro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3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Beam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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</a:t>
                      </a:r>
                      <a:r>
                        <a:rPr b="1" lang="en-US" sz="2800" spc="-1" strike="noStrike" baseline="-25000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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0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2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Tota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19.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5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5050"/>
                          </a:solidFill>
                          <a:latin typeface="Times New Roman"/>
                        </a:rPr>
                        <a:t>0.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61" name=""/>
          <p:cNvSpPr/>
          <p:nvPr/>
        </p:nvSpPr>
        <p:spPr>
          <a:xfrm>
            <a:off x="2361600" y="5791320"/>
            <a:ext cx="315576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Efficiency for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e 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signal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24%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3300"/>
                </a:solidFill>
                <a:latin typeface="Times New Roman"/>
              </a:rPr>
              <a:t>8-fold degeneraci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228240" y="8377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-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ambiguity</a:t>
            </a:r>
            <a:r>
              <a:rPr b="0" lang="en-US" sz="3200" spc="-1" strike="noStrike">
                <a:solidFill>
                  <a:srgbClr val="339933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Mass hierarchy two-fold degenerac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ff33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 degeneracy: For a value of sin2 </a:t>
            </a:r>
            <a:r>
              <a:rPr b="1" lang="en-US" sz="2000" spc="-1" strike="noStrike">
                <a:solidFill>
                  <a:srgbClr val="339933"/>
                </a:solidFill>
                <a:latin typeface="Times New Roman"/>
              </a:rPr>
              <a:t> 2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, say 0.92, 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23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can be 33.5</a:t>
            </a:r>
            <a:r>
              <a:rPr b="0" lang="en-US" sz="2000" spc="-1" strike="noStrike" baseline="30000">
                <a:solidFill>
                  <a:srgbClr val="339933"/>
                </a:solidFill>
                <a:latin typeface="Times New Roman"/>
              </a:rPr>
              <a:t>o</a:t>
            </a:r>
            <a:r>
              <a:rPr b="0" lang="en-US" sz="2000" spc="-1" strike="noStrike">
                <a:solidFill>
                  <a:srgbClr val="339933"/>
                </a:solidFill>
                <a:latin typeface="Times New Roman"/>
              </a:rPr>
              <a:t> or 56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4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2895480" cy="285300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2"/>
          <a:stretch/>
        </p:blipFill>
        <p:spPr>
          <a:xfrm>
            <a:off x="5791320" y="1523880"/>
            <a:ext cx="3205080" cy="3581640"/>
          </a:xfrm>
          <a:prstGeom prst="rect">
            <a:avLst/>
          </a:prstGeom>
          <a:ln w="0">
            <a:noFill/>
          </a:ln>
        </p:spPr>
      </p:pic>
      <p:sp>
        <p:nvSpPr>
          <p:cNvPr id="366" name=""/>
          <p:cNvSpPr/>
          <p:nvPr/>
        </p:nvSpPr>
        <p:spPr>
          <a:xfrm>
            <a:off x="3276720" y="2438280"/>
            <a:ext cx="2819160" cy="23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 measure of P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can yield a whole range of values of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US" sz="2000" spc="-1" strike="noStrike" baseline="-25000">
                <a:solidFill>
                  <a:srgbClr val="3333ff"/>
                </a:solidFill>
                <a:latin typeface="Times New Roman"/>
              </a:rPr>
              <a:t>1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easuring with  </a:t>
            </a:r>
            <a:r>
              <a:rPr b="1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’s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as well reduces the corre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467480" y="2819520"/>
            <a:ext cx="0" cy="190476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6629400" y="4114800"/>
            <a:ext cx="1295280" cy="0"/>
          </a:xfrm>
          <a:prstGeom prst="line">
            <a:avLst/>
          </a:prstGeom>
          <a:ln w="2844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05520" y="3429000"/>
            <a:ext cx="152280" cy="0"/>
          </a:xfrm>
          <a:prstGeom prst="line">
            <a:avLst/>
          </a:prstGeom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304920" y="5791320"/>
            <a:ext cx="7942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 will most probably run first 3 years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nd then 3 more with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is will also improve the complementarity with T2K if they run 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onl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696080" y="5867280"/>
            <a:ext cx="1526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The road ahe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3" name="" descr=""/>
          <p:cNvPicPr/>
          <p:nvPr/>
        </p:nvPicPr>
        <p:blipFill>
          <a:blip r:embed="rId1"/>
          <a:stretch/>
        </p:blipFill>
        <p:spPr>
          <a:xfrm>
            <a:off x="1947960" y="1981080"/>
            <a:ext cx="524664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28240" y="22824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Particle Physics Projects Prioritization Panel (P5)  June 200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8686800" cy="1044720"/>
          </a:xfrm>
          <a:prstGeom prst="rect">
            <a:avLst/>
          </a:prstGeom>
          <a:ln w="0">
            <a:noFill/>
          </a:ln>
        </p:spPr>
      </p:pic>
      <p:pic>
        <p:nvPicPr>
          <p:cNvPr id="376" name="" descr=""/>
          <p:cNvPicPr/>
          <p:nvPr/>
        </p:nvPicPr>
        <p:blipFill>
          <a:blip r:embed="rId2"/>
          <a:stretch/>
        </p:blipFill>
        <p:spPr>
          <a:xfrm>
            <a:off x="0" y="3505320"/>
            <a:ext cx="8915400" cy="2752560"/>
          </a:xfrm>
          <a:prstGeom prst="rect">
            <a:avLst/>
          </a:prstGeom>
          <a:ln w="0">
            <a:noFill/>
          </a:ln>
        </p:spPr>
      </p:pic>
      <p:sp>
        <p:nvSpPr>
          <p:cNvPr id="377" name=""/>
          <p:cNvSpPr/>
          <p:nvPr/>
        </p:nvSpPr>
        <p:spPr>
          <a:xfrm>
            <a:off x="1750680" y="2895480"/>
            <a:ext cx="41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October 2007 -&gt; October 20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H="1" flipV="1">
            <a:off x="533520" y="2285640"/>
            <a:ext cx="1295280" cy="68580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nitial Tests Using </a:t>
            </a:r>
            <a:br>
              <a:rPr sz="3200"/>
            </a:b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xtrusions from Existing Die (Small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638680" y="990720"/>
            <a:ext cx="2819520" cy="2803320"/>
            <a:chOff x="5638680" y="990720"/>
            <a:chExt cx="2819520" cy="2803320"/>
          </a:xfrm>
        </p:grpSpPr>
        <p:pic>
          <p:nvPicPr>
            <p:cNvPr id="381" name="" descr=""/>
            <p:cNvPicPr/>
            <p:nvPr/>
          </p:nvPicPr>
          <p:blipFill>
            <a:blip r:embed="rId1"/>
            <a:stretch/>
          </p:blipFill>
          <p:spPr>
            <a:xfrm>
              <a:off x="5638680" y="990720"/>
              <a:ext cx="2819520" cy="28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2" name=""/>
            <p:cNvSpPr/>
            <p:nvPr/>
          </p:nvSpPr>
          <p:spPr>
            <a:xfrm>
              <a:off x="7389720" y="2730960"/>
              <a:ext cx="66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0000"/>
                  </a:solidFill>
                  <a:latin typeface="Verdana"/>
                </a:rPr>
                <a:t>48 f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 flipV="1">
              <a:off x="6011280" y="2032200"/>
              <a:ext cx="2372400" cy="1594800"/>
            </a:xfrm>
            <a:prstGeom prst="line">
              <a:avLst/>
            </a:prstGeom>
            <a:ln w="19080">
              <a:solidFill>
                <a:srgbClr val="ff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84" name="" descr=""/>
          <p:cNvPicPr/>
          <p:nvPr/>
        </p:nvPicPr>
        <p:blipFill>
          <a:blip r:embed="rId2"/>
          <a:srcRect l="0" t="8136" r="8309" b="0"/>
          <a:stretch/>
        </p:blipFill>
        <p:spPr>
          <a:xfrm>
            <a:off x="152280" y="3886200"/>
            <a:ext cx="5257800" cy="2820960"/>
          </a:xfrm>
          <a:prstGeom prst="rect">
            <a:avLst/>
          </a:prstGeom>
          <a:ln w="0">
            <a:noFill/>
          </a:ln>
        </p:spPr>
      </p:pic>
      <p:sp>
        <p:nvSpPr>
          <p:cNvPr id="385" name=""/>
          <p:cNvSpPr/>
          <p:nvPr/>
        </p:nvSpPr>
        <p:spPr>
          <a:xfrm>
            <a:off x="2057400" y="4343400"/>
            <a:ext cx="241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easured light yiel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1293840" y="4038840"/>
            <a:ext cx="3295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N = 80 exp(-L/4.6)+10 exp(-L/5000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7" name=""/>
          <p:cNvGrpSpPr/>
          <p:nvPr/>
        </p:nvGrpSpPr>
        <p:grpSpPr>
          <a:xfrm>
            <a:off x="155520" y="1417680"/>
            <a:ext cx="4043520" cy="1568520"/>
            <a:chOff x="155520" y="1417680"/>
            <a:chExt cx="4043520" cy="1568520"/>
          </a:xfrm>
        </p:grpSpPr>
        <p:pic>
          <p:nvPicPr>
            <p:cNvPr id="388" name="" descr=""/>
            <p:cNvPicPr/>
            <p:nvPr/>
          </p:nvPicPr>
          <p:blipFill>
            <a:blip r:embed="rId3"/>
            <a:stretch/>
          </p:blipFill>
          <p:spPr>
            <a:xfrm>
              <a:off x="155520" y="1417680"/>
              <a:ext cx="4043520" cy="156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9" name=""/>
            <p:cNvSpPr/>
            <p:nvPr/>
          </p:nvSpPr>
          <p:spPr>
            <a:xfrm>
              <a:off x="1856520" y="220680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4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618640" y="20779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2.2</a:t>
              </a:r>
              <a:r>
                <a:rPr b="0" lang="en-US" sz="1600" spc="-1" strike="noStrike">
                  <a:solidFill>
                    <a:srgbClr val="000000"/>
                  </a:solidFill>
                  <a:latin typeface="Verdana"/>
                </a:rPr>
                <a:t> cm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28720" y="2519280"/>
              <a:ext cx="8352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562480" y="1998720"/>
              <a:ext cx="0" cy="568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headEnd len="med" type="arrow" w="med"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5406480" y="4713120"/>
            <a:ext cx="334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eometry gives factor of 1.7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770440" y="498780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3 pe goes to 23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5422320" y="5602320"/>
            <a:ext cx="331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Reflectivity gives factor of 1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815080" y="5888160"/>
            <a:ext cx="228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3 pe goes to 27 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3043440" y="2895480"/>
            <a:ext cx="201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3.87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         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 6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c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inal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 flipH="1" flipV="1">
            <a:off x="2057040" y="2590920"/>
            <a:ext cx="1066680" cy="38088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flipH="1" flipV="1">
            <a:off x="2971800" y="2438280"/>
            <a:ext cx="1447920" cy="609840"/>
          </a:xfrm>
          <a:prstGeom prst="line">
            <a:avLst/>
          </a:prstGeom>
          <a:ln w="572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>
            <a:off x="4191120" y="3581280"/>
            <a:ext cx="419076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5848560" y="6186600"/>
            <a:ext cx="194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itanium diox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576160" y="4765680"/>
            <a:ext cx="221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13 p.e. at 15.7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19720" y="5181480"/>
            <a:ext cx="380880" cy="762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Far Detector Assemb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4361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ctor has 64 (31-plane) bloc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fill with scintillator and run during constru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alf-Size planes built &amp; tested at Argon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1"/>
          <a:stretch/>
        </p:blipFill>
        <p:spPr>
          <a:xfrm>
            <a:off x="4876920" y="1447920"/>
            <a:ext cx="4267080" cy="2941560"/>
          </a:xfrm>
          <a:prstGeom prst="rect">
            <a:avLst/>
          </a:prstGeom>
          <a:ln w="0">
            <a:noFill/>
          </a:ln>
        </p:spPr>
      </p:pic>
      <p:pic>
        <p:nvPicPr>
          <p:cNvPr id="407" name="" descr=""/>
          <p:cNvPicPr/>
          <p:nvPr/>
        </p:nvPicPr>
        <p:blipFill>
          <a:blip r:embed="rId2"/>
          <a:stretch/>
        </p:blipFill>
        <p:spPr>
          <a:xfrm>
            <a:off x="1523880" y="4267080"/>
            <a:ext cx="6742080" cy="1944720"/>
          </a:xfrm>
          <a:prstGeom prst="rect">
            <a:avLst/>
          </a:prstGeom>
          <a:ln w="0">
            <a:noFill/>
          </a:ln>
        </p:spPr>
      </p:pic>
      <p:sp>
        <p:nvSpPr>
          <p:cNvPr id="408" name=""/>
          <p:cNvSpPr/>
          <p:nvPr/>
        </p:nvSpPr>
        <p:spPr>
          <a:xfrm>
            <a:off x="1371600" y="1752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6400800" y="3429000"/>
            <a:ext cx="129528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6615360" y="354168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7241400" y="167652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1-cm expan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sion g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7772400" y="3276720"/>
            <a:ext cx="1143000" cy="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774200" y="3429000"/>
            <a:ext cx="110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1-pla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7543440" y="2362320"/>
            <a:ext cx="304920" cy="380880"/>
          </a:xfrm>
          <a:prstGeom prst="line">
            <a:avLst/>
          </a:prstGeom>
          <a:ln w="284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Times New Roman"/>
              </a:rPr>
              <a:t>Near Detector to understand the be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6846840" cy="469260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6477120" y="685800"/>
            <a:ext cx="228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62 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145 T totally activ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20.4 T fiduc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(central 2.5 x 3.25 m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914400"/>
            <a:ext cx="1568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8-plane b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0.6 T ful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6 T emp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30840" y="3962520"/>
            <a:ext cx="166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Muon catc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1 m ir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4801680" y="5181480"/>
            <a:ext cx="164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Targe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176000" y="5599080"/>
            <a:ext cx="143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Veto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049920" y="182880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9.6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1221120" y="3733920"/>
            <a:ext cx="573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754640" y="556272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3.5 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 flipV="1">
            <a:off x="1676520" y="1523880"/>
            <a:ext cx="3657600" cy="144792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057400" y="5181480"/>
            <a:ext cx="990720" cy="91440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600200" y="3124080"/>
            <a:ext cx="457200" cy="1981440"/>
          </a:xfrm>
          <a:prstGeom prst="line">
            <a:avLst/>
          </a:prstGeom>
          <a:ln w="2844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flipH="1">
            <a:off x="3276720" y="5791320"/>
            <a:ext cx="914400" cy="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 flipH="1" flipV="1">
            <a:off x="3886200" y="5257440"/>
            <a:ext cx="914400" cy="1522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flipH="1" flipV="1">
            <a:off x="4952520" y="4648320"/>
            <a:ext cx="30492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5257800" y="4724280"/>
            <a:ext cx="319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99"/>
                </a:solidFill>
                <a:latin typeface="Arial"/>
              </a:rPr>
              <a:t>Shower containment reg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 flipH="1" flipV="1">
            <a:off x="6248520" y="3733920"/>
            <a:ext cx="304560" cy="380880"/>
          </a:xfrm>
          <a:prstGeom prst="line">
            <a:avLst/>
          </a:prstGeom>
          <a:ln w="2844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</a:t>
            </a:r>
            <a:r>
              <a:rPr b="1" lang="en-US" sz="3200" spc="-1" strike="noStrike">
                <a:solidFill>
                  <a:srgbClr val="ff0000"/>
                </a:solidFill>
                <a:latin typeface="Symbol"/>
                <a:ea typeface="Symbol"/>
              </a:rPr>
              <a:t></a:t>
            </a:r>
            <a:r>
              <a:rPr b="1" lang="en-US" sz="3200" spc="-1" strike="noStrike" baseline="-25000">
                <a:solidFill>
                  <a:srgbClr val="ff0000"/>
                </a:solidFill>
                <a:latin typeface="Times New Roman"/>
              </a:rPr>
              <a:t>e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epa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" descr=""/>
          <p:cNvPicPr/>
          <p:nvPr/>
        </p:nvPicPr>
        <p:blipFill>
          <a:blip r:embed="rId1"/>
          <a:stretch/>
        </p:blipFill>
        <p:spPr>
          <a:xfrm>
            <a:off x="990720" y="838080"/>
            <a:ext cx="7010280" cy="4641840"/>
          </a:xfrm>
          <a:prstGeom prst="rect">
            <a:avLst/>
          </a:prstGeom>
          <a:ln w="0">
            <a:noFill/>
          </a:ln>
        </p:spPr>
      </p:pic>
      <p:sp>
        <p:nvSpPr>
          <p:cNvPr id="435" name=""/>
          <p:cNvSpPr/>
          <p:nvPr/>
        </p:nvSpPr>
        <p:spPr>
          <a:xfrm>
            <a:off x="1676160" y="182880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105160" y="1905120"/>
            <a:ext cx="1142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lectr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(showe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828440" y="426708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257440" y="4343400"/>
            <a:ext cx="889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Mu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2132280" y="914400"/>
            <a:ext cx="140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Low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0920" y="914400"/>
            <a:ext cx="145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High ener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457200" y="5638680"/>
            <a:ext cx="18432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666880" y="5638680"/>
            <a:ext cx="487692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C background rejection: 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7.1 x 10</a:t>
            </a:r>
            <a:r>
              <a:rPr b="1" lang="en-US" sz="2000" spc="-1" strike="noStrike" baseline="30000">
                <a:solidFill>
                  <a:srgbClr val="ff3300"/>
                </a:solidFill>
                <a:latin typeface="Times New Roman"/>
              </a:rPr>
              <a:t>-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Times New Roman"/>
              </a:rPr>
              <a:t>Near detector lo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tretch/>
        </p:blipFill>
        <p:spPr>
          <a:xfrm>
            <a:off x="380880" y="609480"/>
            <a:ext cx="8458200" cy="1460520"/>
          </a:xfrm>
          <a:prstGeom prst="rect">
            <a:avLst/>
          </a:prstGeom>
          <a:ln w="0">
            <a:noFill/>
          </a:ln>
        </p:spPr>
      </p:pic>
      <p:sp>
        <p:nvSpPr>
          <p:cNvPr id="445" name=""/>
          <p:cNvSpPr/>
          <p:nvPr/>
        </p:nvSpPr>
        <p:spPr>
          <a:xfrm>
            <a:off x="6613200" y="623880"/>
            <a:ext cx="959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Times New Roman"/>
              </a:rPr>
              <a:t>Site 1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086600" y="990720"/>
            <a:ext cx="76320" cy="38088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2"/>
          <a:stretch/>
        </p:blipFill>
        <p:spPr>
          <a:xfrm>
            <a:off x="1219320" y="2232000"/>
            <a:ext cx="5943600" cy="4587840"/>
          </a:xfrm>
          <a:prstGeom prst="rect">
            <a:avLst/>
          </a:prstGeom>
          <a:ln w="0">
            <a:noFill/>
          </a:ln>
        </p:spPr>
      </p:pic>
      <p:sp>
        <p:nvSpPr>
          <p:cNvPr id="448" name=""/>
          <p:cNvSpPr/>
          <p:nvPr/>
        </p:nvSpPr>
        <p:spPr>
          <a:xfrm flipH="1">
            <a:off x="5105160" y="1523880"/>
            <a:ext cx="2514600" cy="289584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3809880" y="1447920"/>
            <a:ext cx="3276720" cy="3962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 flipH="1">
            <a:off x="3276720" y="1219320"/>
            <a:ext cx="3047760" cy="4647960"/>
          </a:xfrm>
          <a:prstGeom prst="line">
            <a:avLst/>
          </a:prstGeom>
          <a:ln w="38160">
            <a:solidFill>
              <a:srgbClr val="d6009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2286000" y="1295280"/>
            <a:ext cx="457200" cy="4419720"/>
          </a:xfrm>
          <a:prstGeom prst="line">
            <a:avLst/>
          </a:prstGeom>
          <a:ln w="38160">
            <a:solidFill>
              <a:srgbClr val="00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2804400" y="32148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ff"/>
                </a:solidFill>
                <a:latin typeface="Times New Roman"/>
              </a:rPr>
              <a:t>F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124080" y="3581280"/>
            <a:ext cx="76320" cy="762120"/>
          </a:xfrm>
          <a:prstGeom prst="line">
            <a:avLst/>
          </a:prstGeom>
          <a:ln w="38160">
            <a:solidFill>
              <a:srgbClr val="ff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0" y="1447920"/>
            <a:ext cx="380880" cy="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-129600" y="1558800"/>
            <a:ext cx="1086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Symbol"/>
                <a:ea typeface="Symbol"/>
              </a:rPr>
              <a:t>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bea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NO</a:t>
            </a:r>
            <a:r>
              <a:rPr b="1" lang="en-US" sz="32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 Collaboration consists of 142 physicists and engineers from 28 institution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rgonne, Athens, Caltech, College de France, Fermilab, Harvard, Indiana, ITEP, Michigan State, Minnesota-Twin Cities, Minnesota-Duluth, Northern Illinois, Ohio, Ohio State, Oxford, Rutherford, Rio de Janeiro, South Carolina, SMU, Stanford, Texas, Texas A&amp;M, Tufts, UCLA, Virginia, Washington, William and M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􀁺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Five Italian universities with about 20 senior physicists are actively discussing joining N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ν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Its main physics goal will be the study of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μ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→ν</a:t>
            </a:r>
            <a:r>
              <a:rPr b="1" lang="en-US" sz="2400" spc="-1" strike="noStrike" baseline="-25000">
                <a:solidFill>
                  <a:srgbClr val="ff3300"/>
                </a:solidFill>
                <a:latin typeface="Times New Roman"/>
              </a:rPr>
              <a:t>e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oscillations at the atmospheric oscillation </a:t>
            </a:r>
            <a:r>
              <a:rPr b="1" lang="en-US" sz="24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4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3300"/>
                </a:solidFill>
                <a:latin typeface="Times New Roman"/>
              </a:rPr>
              <a:t>Correlations in Oscillation Probabilit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77640" y="838080"/>
            <a:ext cx="2029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From M. Lindne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7315200" cy="89676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380880" y="2057400"/>
            <a:ext cx="7315200" cy="27687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52280" y="4800600"/>
            <a:ext cx="8610840" cy="200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easuring P (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~</a:t>
            </a:r>
            <a:r>
              <a:rPr b="1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US" sz="2000" spc="-1" strike="noStrike" baseline="-25000">
                <a:solidFill>
                  <a:srgbClr val="000000"/>
                </a:solidFill>
                <a:latin typeface="Times New Roman"/>
              </a:rPr>
              <a:t>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) does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NO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yield a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UNIQU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value of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ecause of correlations between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</a:t>
            </a:r>
            <a:r>
              <a:rPr b="1" lang="en-US" sz="2000" spc="-1" strike="noStrike" baseline="-25000">
                <a:solidFill>
                  <a:srgbClr val="ff3300"/>
                </a:solidFill>
                <a:latin typeface="Times New Roman"/>
              </a:rPr>
              <a:t>13</a:t>
            </a:r>
            <a:r>
              <a:rPr b="1" lang="en-US" sz="2000" spc="-1" strike="noStrike">
                <a:solidFill>
                  <a:srgbClr val="3333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339933"/>
                </a:solidFill>
                <a:latin typeface="Symbol"/>
                <a:ea typeface="Symbol"/>
              </a:rPr>
              <a:t></a:t>
            </a:r>
            <a:r>
              <a:rPr b="1" lang="en-US" sz="2000" spc="-1" strike="noStrike" baseline="-25000">
                <a:solidFill>
                  <a:srgbClr val="339933"/>
                </a:solidFill>
                <a:latin typeface="Times New Roman"/>
              </a:rPr>
              <a:t>CP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d the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(sign of </a:t>
            </a: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1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1" lang="en-US" sz="2000" spc="-1" strike="noStrike" baseline="-25000">
                <a:solidFill>
                  <a:srgbClr val="3333ff"/>
                </a:solidFill>
                <a:latin typeface="Times New Roman"/>
              </a:rPr>
              <a:t>31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00"/>
                </a:solidFill>
                <a:latin typeface="Times New Roman"/>
              </a:rPr>
              <a:t>CP violation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: Difference between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nd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tineutrino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scill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Mass hierarchy accessible through Matter effec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609480" y="3276360"/>
            <a:ext cx="1143000" cy="2438280"/>
          </a:xfrm>
          <a:prstGeom prst="line">
            <a:avLst/>
          </a:prstGeom>
          <a:ln w="38160">
            <a:solidFill>
              <a:srgbClr val="00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4267080" y="4114440"/>
            <a:ext cx="2133720" cy="2438280"/>
          </a:xfrm>
          <a:prstGeom prst="line">
            <a:avLst/>
          </a:prstGeom>
          <a:ln w="3816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762012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nergy dependence of matter effect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-360" y="76176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 vacuum and without CP violation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23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2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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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sin</a:t>
            </a:r>
            <a:r>
              <a:rPr b="0" lang="en-GB" sz="2800" spc="-1" strike="noStrike" baseline="30000">
                <a:solidFill>
                  <a:srgbClr val="3333ff"/>
                </a:solidFill>
                <a:latin typeface="Times New Roman"/>
              </a:rPr>
              <a:t>2 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at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= 1.27 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(L/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To be at maximum oscillation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at L = 800km    E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ust be 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1.64 GeV,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nd at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L = 295km    E = 0.6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Introducing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matter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effects, at the first oscillation maximum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             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mat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= [1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(2E/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8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] P(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Symbol"/>
                <a:ea typeface="Symbol"/>
              </a:rPr>
              <a:t></a:t>
            </a:r>
            <a:r>
              <a:rPr b="0" lang="en-GB" sz="2800" spc="-1" strike="noStrike">
                <a:solidFill>
                  <a:srgbClr val="3333ff"/>
                </a:solidFill>
                <a:latin typeface="Symbol"/>
                <a:ea typeface="Symbol"/>
              </a:rPr>
              <a:t>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e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)</a:t>
            </a:r>
            <a:r>
              <a:rPr b="0" lang="en-GB" sz="2800" spc="-1" strike="noStrike" baseline="-25000">
                <a:solidFill>
                  <a:srgbClr val="3333ff"/>
                </a:solidFill>
                <a:latin typeface="Times New Roman"/>
              </a:rPr>
              <a:t>v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with</a:t>
            </a:r>
            <a:r>
              <a:rPr b="0" lang="en-GB" sz="2800" spc="-1" strike="noStrike">
                <a:solidFill>
                  <a:srgbClr val="3333ff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E</a:t>
            </a:r>
            <a:r>
              <a:rPr b="0" lang="en-GB" sz="2000" spc="-1" strike="noStrike" baseline="-25000">
                <a:solidFill>
                  <a:srgbClr val="ff3300"/>
                </a:solidFill>
                <a:latin typeface="Times New Roman"/>
              </a:rPr>
              <a:t>R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 = [12 GeV][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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r>
              <a:rPr b="0" lang="en-GB" sz="2000" spc="-1" strike="noStrike" baseline="-25000">
                <a:solidFill>
                  <a:srgbClr val="3333ff"/>
                </a:solidFill>
                <a:latin typeface="Times New Roman"/>
              </a:rPr>
              <a:t>32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(2.7x10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)][2.8 gm.cm</a:t>
            </a:r>
            <a:r>
              <a:rPr b="0" lang="en-GB" sz="2000" spc="-1" strike="noStrike" baseline="30000">
                <a:solidFill>
                  <a:srgbClr val="3333ff"/>
                </a:solidFill>
                <a:latin typeface="Times New Roman"/>
              </a:rPr>
              <a:t>-3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/</a:t>
            </a:r>
            <a:r>
              <a:rPr b="0" lang="en-GB" sz="2000" spc="-1" strike="noStrike">
                <a:solidFill>
                  <a:srgbClr val="3333ff"/>
                </a:solidFill>
                <a:latin typeface="Symbol"/>
                <a:ea typeface="Symbol"/>
              </a:rPr>
              <a:t></a:t>
            </a:r>
            <a:r>
              <a:rPr b="0" lang="en-GB" sz="2000" spc="-1" strike="noStrike">
                <a:solidFill>
                  <a:srgbClr val="3333ff"/>
                </a:solidFill>
                <a:latin typeface="Times New Roman"/>
              </a:rPr>
              <a:t>]~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12 Ge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0" lang="en-GB" sz="2800" spc="-1" strike="noStrike">
                <a:solidFill>
                  <a:srgbClr val="ff3300"/>
                </a:solidFill>
                <a:latin typeface="Times New Roman"/>
              </a:rPr>
              <a:t>+-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pends on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Matter effects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grow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 with energy and therefore with </a:t>
            </a: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distance</a:t>
            </a: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3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times larger (</a:t>
            </a:r>
            <a:r>
              <a:rPr b="1" lang="en-GB" sz="2400" spc="-1" strike="noStrike">
                <a:solidFill>
                  <a:srgbClr val="ff3300"/>
                </a:solidFill>
                <a:latin typeface="Times New Roman"/>
              </a:rPr>
              <a:t>27%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) at NO</a:t>
            </a:r>
            <a:r>
              <a:rPr b="1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A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1.64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 than at T2K (</a:t>
            </a:r>
            <a:r>
              <a:rPr b="1" lang="en-GB" sz="2400" spc="-1" strike="noStrike">
                <a:solidFill>
                  <a:srgbClr val="00cc00"/>
                </a:solidFill>
                <a:latin typeface="Times New Roman"/>
              </a:rPr>
              <a:t>0.6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GeV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33520" y="3886200"/>
            <a:ext cx="815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33520" y="1519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NO</a:t>
            </a:r>
            <a:r>
              <a:rPr b="0" lang="en-US" sz="4000" spc="-1" strike="noStrike">
                <a:solidFill>
                  <a:srgbClr val="ff0066"/>
                </a:solidFill>
                <a:latin typeface="Symbol"/>
                <a:ea typeface="Symbol"/>
              </a:rPr>
              <a:t></a:t>
            </a: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A Detecto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838080"/>
            <a:ext cx="8686800" cy="55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iven relatively high ener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of NUMI beam, decided t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optimize NO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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A</a:t>
            </a:r>
            <a:r>
              <a:rPr b="0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for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resolution of the mass hierarch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high in energy as 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To keep L/E constant at 2.7 x 10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-3 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eV</a:t>
            </a:r>
            <a:r>
              <a:rPr b="0" lang="en-US" sz="2000" spc="-1" strike="noStrike" baseline="30000">
                <a:solidFill>
                  <a:srgbClr val="3333ff"/>
                </a:solidFill>
                <a:latin typeface="Times New Roman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Go as far as possible, but remain in U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At Ash River near Canadian border (L = 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810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New site. Above grou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ff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Detector placed 14 mrad (</a:t>
            </a:r>
            <a:r>
              <a:rPr b="0" lang="en-US" sz="2000" spc="-1" strike="noStrike">
                <a:solidFill>
                  <a:srgbClr val="ff3300"/>
                </a:solidFill>
                <a:latin typeface="Times New Roman"/>
              </a:rPr>
              <a:t>12 km</a:t>
            </a:r>
            <a:r>
              <a:rPr b="0" lang="en-US" sz="2000" spc="-1" strike="noStrike">
                <a:solidFill>
                  <a:srgbClr val="3333ff"/>
                </a:solidFill>
                <a:latin typeface="Times New Roman"/>
              </a:rPr>
              <a:t>) Off-axis of the Fermilab NUMI beam  (MINOS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705720" y="6850080"/>
            <a:ext cx="1066680" cy="7920"/>
          </a:xfrm>
          <a:prstGeom prst="line">
            <a:avLst/>
          </a:prstGeom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21337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600200" y="3124080"/>
            <a:ext cx="152280" cy="533520"/>
          </a:xfrm>
          <a:prstGeom prst="downArrow">
            <a:avLst>
              <a:gd name="adj1" fmla="val 50000"/>
              <a:gd name="adj2" fmla="val 8758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00200" y="3962520"/>
            <a:ext cx="152280" cy="533160"/>
          </a:xfrm>
          <a:prstGeom prst="downArrow">
            <a:avLst>
              <a:gd name="adj1" fmla="val 50000"/>
              <a:gd name="adj2" fmla="val 8753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4419720" y="1219320"/>
            <a:ext cx="4471920" cy="38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7T14:45:39Z</dcterms:created>
  <dc:creator>Camilleri Leslie Loris</dc:creator>
  <dc:description/>
  <dc:language>en-US</dc:language>
  <cp:lastModifiedBy>llc</cp:lastModifiedBy>
  <dcterms:modified xsi:type="dcterms:W3CDTF">2006-10-03T19:52:20Z</dcterms:modified>
  <cp:revision>188</cp:revision>
  <dc:subject/>
  <dc:title>Cosmic calibration</dc:title>
</cp:coreProperties>
</file>